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739-F721-4DAB-8CBA-84999F88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4D4-7B8A-4452-9B10-5C3D9C2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380-0E18-49E0-BE93-1EB52658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879-48ED-4CD0-A256-C35A2E0C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382-0955-4A71-9B72-B5B5043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F15-278E-4933-8595-9E00180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582-FEDF-4AEB-BA6F-1F4483C2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E58-833F-4805-9D81-E44D3F74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1CE-FD43-491A-94BD-E51EC31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7EA-0976-48C6-BAE0-3471ED8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84F-72C3-463C-BD77-7EDCFBDC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E69-37DC-47F3-824F-1EB0FFA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F36-840F-4024-9A4F-E8AC81931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3132000"/>
            <a:ext cx="160020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60640" y="4292640"/>
            <a:ext cx="1752840" cy="228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4419720"/>
            <a:ext cx="414360" cy="4143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419720"/>
            <a:ext cx="414360" cy="4143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5:18:22Z</dcterms:created>
  <dc:creator>CIIPS</dc:creator>
  <dc:description/>
  <dc:language>en-US</dc:language>
  <cp:lastModifiedBy>CIIPS</cp:lastModifiedBy>
  <dcterms:modified xsi:type="dcterms:W3CDTF">2007-01-09T16:44:24Z</dcterms:modified>
  <cp:revision>2</cp:revision>
  <dc:subject/>
  <dc:title>PowerPoint Presentation</dc:title>
</cp:coreProperties>
</file>